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EF4A9-6451-47CE-A1A2-853B9A00D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523B9-BE90-4EF1-B45A-D11DA8B50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90DDD-3188-4828-B964-6F95BB434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05E4A-D47A-4216-98F8-E0549E5AA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EE6BE-68C0-4659-B6A7-6844334BF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5877A-27A7-4403-9CFD-3747684E2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1D9E3-E1DF-4929-9653-4609EABD4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2E3F2-E915-4ECE-AA42-4134F743C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CAB85-8AB1-4E57-A86D-FD975286F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3F769-EBF0-447B-B26D-3584F80F9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526E0-1B65-4C6E-86A5-4177DEAE5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BFE40-D1A9-4E00-ACCF-BF7876023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EC039-5587-4672-A291-D34CD6886986}"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u/projektov</a:t>
            </a:r>
            <a:endParaRPr b="0" lang="en-US" sz="1500" spc="-1" strike="noStrike">
              <a:solidFill>
                <a:srgbClr val="000000"/>
              </a:solidFill>
              <a:latin typeface="Calibri"/>
            </a:endParaRPr>
          </a:p>
        </p:txBody>
      </p:sp>
      <p:sp>
        <p:nvSpPr>
          <p:cNvPr id="43" name="BlokTextu 5"/>
          <p:cNvSpPr/>
          <p:nvPr/>
        </p:nvSpPr>
        <p:spPr>
          <a:xfrm>
            <a:off x="539640" y="5805360"/>
            <a:ext cx="3240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Calibri"/>
              </a:rPr>
              <a:t>               </a:t>
            </a:r>
            <a:r>
              <a:rPr b="1" lang="sk-SK" sz="1400" spc="-1" strike="noStrike">
                <a:solidFill>
                  <a:srgbClr val="7f7f7f"/>
                </a:solidFill>
                <a:latin typeface="Calibri"/>
              </a:rPr>
              <a:t>Informačné seminá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7f7f7f"/>
                </a:solidFill>
                <a:latin typeface="Calibri"/>
              </a:rPr>
              <a:t>výzva </a:t>
            </a:r>
            <a:r>
              <a:rPr b="0" lang="sk-SK" sz="1400" spc="-1" strike="noStrike">
                <a:solidFill>
                  <a:srgbClr val="7f7f7f"/>
                </a:solidFill>
                <a:latin typeface="Calibri"/>
              </a:rPr>
              <a:t>č.</a:t>
            </a:r>
            <a:r>
              <a:rPr b="0" lang="sk-SK" sz="1400" spc="-1" strike="noStrike">
                <a:solidFill>
                  <a:srgbClr val="000000"/>
                </a:solidFill>
                <a:latin typeface="Arial"/>
              </a:rPr>
              <a:t> </a:t>
            </a:r>
            <a:r>
              <a:rPr b="0" lang="sk-SK" sz="1400" spc="-1" strike="noStrike">
                <a:solidFill>
                  <a:srgbClr val="7f7f7f"/>
                </a:solidFill>
                <a:latin typeface="Calibri"/>
              </a:rPr>
              <a:t>OPLZ-PO1/2016/DOP/1.1.1-01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7f7f7f"/>
                </a:solidFill>
                <a:latin typeface="Calibri"/>
              </a:rPr>
              <a:t>„</a:t>
            </a:r>
            <a:r>
              <a:rPr b="1" lang="sk-SK" sz="1400" spc="-1" strike="noStrike">
                <a:solidFill>
                  <a:srgbClr val="7f7f7f"/>
                </a:solidFill>
                <a:latin typeface="Calibri"/>
              </a:rPr>
              <a:t>V základnej škole úspešnejší“</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zálohových platieb</a:t>
            </a:r>
            <a:endParaRPr b="0" lang="en-US" sz="36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použitia systému zálohových platieb sa úhrada uskutočňuje z prostriedkov poskytnutej zálohovej platby. Žiadosť o zálohovú platbu prijímateľ vystaví v systéme IMS 2014+ vo verejnej časti. Prijímateľ vypracuje žiadosť o zálohovú platbu – v elektronickej a písomnej podobe. Písomnú podobu ŽoP prijímateľ predloží na SO. ŽoP pozostáva z vyplneného formuláru (definované v Systéme finančného riadenia štrukturálnych fondov a Kohézneho fondu na programové obdobie 2014-2020). Písomnú ŽoP podpísanú štatutárom prijímateľ zašle na SO, ktoré ŽoP spracuje a postúpi na platobnú jednotku, ktorá zašle prijímateľovi finančné prostriedky.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zistenia nedostatkov SO písomne s doručenkou alebo elektronicky e-mailom s potvrdením doručenia a prečítania vyzve prijímateľa, aby v stanovenej lehote doplnil / zmenil žiadosť o platbu. Za vyzvanie sprostredkovateľským orgánom je možné považovať aj doručenie návrhu správy z kontroly v prípade, ak boli počas kontroly zistené nedostatky.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zálohových platieb</a:t>
            </a:r>
            <a:endParaRPr b="0" lang="en-US" sz="36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boli v rámci kontroly zistené nedostatky je projektový manažér SO povinný vypracovať návrh správy z kontroly s určením lehoty na podanie námietok.</a:t>
            </a: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má na podanie námietok lehotu 5 pracovných dní odo dňa doručenia návrhu správy z kontroly prijímateľovi. V prípade, ak SO neakceptuje námietky podané prijímateľom, resp. prijímateľ v stanovenej lehote nedoručí námietky, resp. ak prijímateľ doručí oznámenie, že nemá námietky k návrhu správy z kontroly, SO vypracuje správu z kontroly ŽoP a zašle správu z kontroly písomne s doručenkou alebo elektronicky e-mailom s potvrdením doručenia a prečítania prijímateľovi. Momentom ukončenia kontroly je zaslanie správy z kontroly. </a:t>
            </a: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k SO úplne alebo sčasti akceptuje námietky podané prijímateľom, zapracuje námietky do správy z kontroly. SO vypracuje správu z kontroly a zašle správu z kontroly písomne s doručenkou alebo elektronicky e-mailom s potvrdením doručenia a prečítania prijímateľovi. Za moment ukončenia kontroly je v takomto prípade považovaný moment zaslania tejto správy z kontroly prijímateľov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zálohových platieb</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kontrolou neboli zistené nedostatky, vypracuje SO správu z kontroly a zašle správu z kontroly písomne s doručenkou alebo elektronicky e-mailom s potvrdením doručenia a prečítania prijímateľovi. Momentom ukončenia kontroly je zaslanie správy prijímateľovi.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O predloží spracovanú žiadosť o zálohovú platbu na platobnú jednotku, ktorá zašle prijímateľovi finančné prostriedky.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je povinný poskytnutú zálohovú platbu zúčtovať do 9 mesiacov od poskytnutia.</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v rámci zúčtovania zálohovej platby predkladá žiadosť o platbu (zúčtovanie zálohovej platby) sprostredkovateľskému orgánu elektronicky prostredníctvom ITMS2014+ aj písomne. Prijímateľ predkladá spolu so žiadosťou o platbu (zúčtovanie zálohovej platby) aj účtovné doklady (preukazujúce úhradu výdavku deklarovaného v žiadosti o platbu) a relevantnú podpornú dokumentáciu, ktorej minimálny rozsah stanovuje Systém riadenia európskych štrukturálnych a investičných fondov na programové obdobie 2014 – 2020 a Príručka pre prijímateľa. </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počas spracovania žiadosti o zúčtovanie zálohovej platby nahrá v systéme ITMS 2014+ účtovné doklady v časti „účtovné doklady“ a v časti „deklarované výdavky“ priradí výdavok ku konkrétnej rozpočtovej položke – číslu rozpočtovej položky zo schváleného rozpočtu. Zároveň vypíše požadovanú výšku deklarovaného výdavku.</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ojektový  manažér SO vo vzťahu k žiadosti o platbu (zúčtovanie zálohovej platby) postupuje obdobne ako pri etape poskytnutia zálohovej platby. </a:t>
            </a:r>
            <a:endParaRPr b="0" lang="en-US" sz="1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 vykonaní administratívnej finančnej kontroly žiadosti o platbu SO žiadosť o platbu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chváli (schváli deklarované výdavky v plnej výške),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ť o platbu schváli v zníženej sume (schváli deklarované výdavky vo výške zníženej o sumu neoprávnených výdavkov),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ť o platbu schváli v zníženej sume (schváli deklarované výdavky bez deklarovaných výdavkov, ktoré sú predmetom samostatnej kontroly, resp. schváli deklarované výdavky, ktoré sú predmetom samostatnej kontroly),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lebo žiadosť o platbu zamietne bezodkladne, najneskôr však v lehote 25 pracovných dní od prijatia žiadosti o platbu od prijímateľa SO.</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zistenia nedostatkov SO vyzve písomne s doručenkou alebo elektronicky        e-mailom s potvrdením doručenia a prečítania prijímateľa, aby v stanovenej lehote doplnil / zmenil žiadosť o platbu. Za vyzvanie riadiacim orgánom je možné považovať aj doručenie návrhu správy z kontroly v prípade, ak boli počas kontroly zistené nedostatky. </a:t>
            </a:r>
            <a:endParaRPr b="0" lang="en-US" sz="1800" spc="-1" strike="noStrike">
              <a:solidFill>
                <a:srgbClr val="000000"/>
              </a:solidFill>
              <a:latin typeface="Calibri"/>
            </a:endParaRPr>
          </a:p>
          <a:p>
            <a:pPr marL="332640" indent="-3326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čas výkonu administratívnej finančnej kontroly žiadosti o platbu vykonáva v prípade potreby aj samostatnú kontrolu vyčlenenej časti deklarovaných výdavkov z predloženej žiadosti o platbu. V prípade výkonu samostatnej kontroly SO schváli deklarované výdavky, ktoré boli predmetom samostatnej kontroly v plnej výške, schváli deklarované výdavky, ktoré boli predmetom samostatnej kontroly vo výške zníženej o sumu neoprávnených výdavkov, schváli deklarované výdavky, ktoré boli predmetom samostatnej kontroly vo výške zníženej o sumu deklarovaných výdavkov, ktoré sú predmetom ďalšej samostatnej kontroly, schvaľovanie pozastaví alebo zamietne bezodkladne, najneskôr však v lehote 25 pracovných dní od prijatia žiadosti o platbu od prijímateľa.</a:t>
            </a:r>
            <a:endParaRPr b="0" lang="en-US" sz="1800" spc="-1" strike="noStrike">
              <a:solidFill>
                <a:srgbClr val="000000"/>
              </a:solidFill>
              <a:latin typeface="Calibri"/>
            </a:endParaRPr>
          </a:p>
          <a:p>
            <a:pPr marL="332640" indent="-3326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každom z uvedených prípadov predkladá projektový manažér SO platobnej jednotke príslušnú časť formulára žiadosti o platbu, v ktorej sa uvádza výška schválených výdavkov.</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boli v rámci kontroly zistené nedostatky je SO povinné vypracovať návrh správy z kontroly s určením lehoty na podanie námietok. Návrh správy z kontroly  je SO povinné doručiť návrh správy z kontroly prijímateľovi (písomne s doručenkou alebo elektronicky e-mailom s potvrdením doručenia a prečítani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má na podanie námietok lehotu 5 pracovných dní odo dňa doručenia návrhu správy z kontroly prijímateľovi. V prípade, ak SO neakceptuje námietky podané prijímateľom, resp. prijímateľ v stanovenej lehote nedoručí námietky, resp. ak prijímateľ doručí oznámenie, že nemá námietky k návrhu správy z kontroly, SO vypracuje správu z kontroly a zašle správu z kontroly </a:t>
            </a:r>
            <a:r>
              <a:rPr b="1" lang="cs-CZ" sz="1800" spc="-1" strike="noStrike">
                <a:solidFill>
                  <a:srgbClr val="00b050"/>
                </a:solidFill>
                <a:latin typeface="Calibri"/>
              </a:rPr>
              <a:t>písomne s doručenkou alebo elektronicky e-mailom s potvrdením doručenia a prečítania</a:t>
            </a:r>
            <a:r>
              <a:rPr b="1" lang="sk-SK" sz="1800" spc="-1" strike="noStrike">
                <a:solidFill>
                  <a:srgbClr val="00b050"/>
                </a:solidFill>
                <a:latin typeface="Calibri"/>
              </a:rPr>
              <a:t> prijímateľovi. Momentom ukončenia kontroly je zaslanie správy z kontroly.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k SO akceptuje námietky podané prijímateľom, je povinný zohľadniť opodstatnenosť týchto námietok v správe z kontroly, t.j. zapracuje námietky do správy z kontroly. SO vypracuje správu z kontroly a zašle správu z kontroly písomne s doručenkou alebo elektronicky e-mailom s potvrdením doručenia a prečítania prijímateľovi. Za moment ukončenia kontroly je v takomto prípade považovaný moment zaslania tejto správy z kontroly prijímateľovi.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kontrolou neboli zistené nedostatky, vypracuje SO správu z kontroly a zašle správu z kontroly písomne s doručenkou alebo elektronicky  e-mailom s potvrdením doručenia a prečítania prijímateľovi Momentom ukončenia kontroly je zaslanie správy prijímateľovi.</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 doručení správy od prijímateľa SO predloží žiadosť o zúčtovanie zálohovej platby na platobnú jednotku.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a:bodyPr>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naložený výdavok je v súlade s platnými všeobecne záväznými právnymi predpismi (napr. zákon  č. 18/1996 Z. z. o cenách v znení neskorších predpisov, Zákonník práce, Občiansky zákonník);</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ky sú vynaložené v súlade s cieľom prioritnej osi č. 1 Vzdelávanie OP ĽZ, na aktivitu v súlade s obsahovou stránkou projektu a sú plne v súlade s cieľmi projektu, výdavky prispievajú k dosiahnutiu plánovaných aktivít projektu;</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oprávnenosť výdavkov začína plynúť dňom účinnosti zmluvy o poskytnutí NFP + začiatok realizácie projektu uvedený v zmluve o NFP – čl. 2 (bod 2.2);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refundácie</a:t>
            </a:r>
            <a:endParaRPr b="0" lang="en-US" sz="36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O postupuje obdobne ako pri etape zúčtovania zálohovej platby.</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188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Oprávnené výdavky</a:t>
            </a:r>
            <a:endParaRPr b="0" lang="en-US" sz="3600" spc="-1" strike="noStrike">
              <a:solidFill>
                <a:srgbClr val="000000"/>
              </a:solidFill>
              <a:latin typeface="Calibri"/>
            </a:endParaRPr>
          </a:p>
        </p:txBody>
      </p:sp>
      <p:sp>
        <p:nvSpPr>
          <p:cNvPr id="83" name=""/>
          <p:cNvSpPr txBox="1"/>
          <p:nvPr/>
        </p:nvSpPr>
        <p:spPr>
          <a:xfrm>
            <a:off x="499680" y="1197000"/>
            <a:ext cx="8186760" cy="5184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rámci výzvy boli stanovené za oprávnené výdavky:</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910 - Jednotkové výdavky</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zjednodušené vykazovanie výdavkov (SCO) – nasledovné štandardné stupnice jednotkových nákladov:</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štandardná stupnica jednotkových nákladov - </a:t>
            </a:r>
            <a:r>
              <a:rPr b="1" lang="sk-SK" sz="1800" spc="-1" strike="noStrike">
                <a:solidFill>
                  <a:srgbClr val="ff0000"/>
                </a:solidFill>
                <a:latin typeface="Calibri"/>
              </a:rPr>
              <a:t>pedagogický asistent </a:t>
            </a:r>
            <a:r>
              <a:rPr b="1" lang="sk-SK" sz="1800" spc="-1" strike="noStrike">
                <a:solidFill>
                  <a:srgbClr val="00b050"/>
                </a:solidFill>
                <a:latin typeface="Calibri"/>
              </a:rPr>
              <a:t>- mesačné náklady na novovytvorené miesto pedagogického asistenta v materských a v základných školách </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štandardná stupnica jednotkových nákladov - </a:t>
            </a:r>
            <a:r>
              <a:rPr b="1" lang="sk-SK" sz="1800" spc="-1" strike="noStrike">
                <a:solidFill>
                  <a:srgbClr val="ff0000"/>
                </a:solidFill>
                <a:latin typeface="Calibri"/>
              </a:rPr>
              <a:t>inkluzívny tím </a:t>
            </a:r>
            <a:r>
              <a:rPr b="1" lang="sk-SK" sz="1800" spc="-1" strike="noStrike">
                <a:solidFill>
                  <a:srgbClr val="00b050"/>
                </a:solidFill>
                <a:latin typeface="Calibri"/>
              </a:rPr>
              <a:t>- mesačné náklady na novovytvorené miesto školského psychológa/špeciálneho pedagóga/sociálneho pedagóga v základných školách </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štandardná stupnica jednotkových nákladov - </a:t>
            </a:r>
            <a:r>
              <a:rPr b="1" lang="sk-SK" sz="1800" spc="-1" strike="noStrike">
                <a:solidFill>
                  <a:srgbClr val="ff0000"/>
                </a:solidFill>
                <a:latin typeface="Calibri"/>
              </a:rPr>
              <a:t>asistent učiteľa </a:t>
            </a:r>
            <a:r>
              <a:rPr b="1" lang="sk-SK" sz="1800" spc="-1" strike="noStrike">
                <a:solidFill>
                  <a:srgbClr val="00b050"/>
                </a:solidFill>
                <a:latin typeface="Calibri"/>
              </a:rPr>
              <a:t>- vytvorenie a obsadenie miesta asistenta učiteľa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štandardná stupnica jednotkových nákladov -</a:t>
            </a:r>
            <a:r>
              <a:rPr b="1" lang="sk-SK" sz="2400" spc="-1" strike="noStrike">
                <a:solidFill>
                  <a:srgbClr val="ff0000"/>
                </a:solidFill>
                <a:latin typeface="Calibri"/>
              </a:rPr>
              <a:t> pedagogický asistent </a:t>
            </a:r>
            <a:r>
              <a:rPr b="0" lang="sk-SK" sz="2400" spc="-1" strike="noStrike">
                <a:solidFill>
                  <a:srgbClr val="ff0000"/>
                </a:solidFill>
                <a:latin typeface="Calibri"/>
              </a:rPr>
              <a:t>- mesačné náklady na novovytvorené miesto pedagogického asistenta v materských a v základných školách II.</a:t>
            </a:r>
            <a:endParaRPr b="0" lang="en-US" sz="2400" spc="-1" strike="noStrike">
              <a:solidFill>
                <a:srgbClr val="000000"/>
              </a:solidFill>
              <a:latin typeface="Calibri"/>
            </a:endParaRPr>
          </a:p>
        </p:txBody>
      </p:sp>
      <p:sp>
        <p:nvSpPr>
          <p:cNvPr id="85" name=""/>
          <p:cNvSpPr txBox="1"/>
          <p:nvPr/>
        </p:nvSpPr>
        <p:spPr>
          <a:xfrm>
            <a:off x="499680" y="1628640"/>
            <a:ext cx="8186760" cy="430056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oprávnenými</a:t>
            </a:r>
            <a:r>
              <a:rPr b="1" lang="sk-SK" sz="1800" spc="-1" strike="noStrike">
                <a:solidFill>
                  <a:srgbClr val="00b050"/>
                </a:solidFill>
                <a:latin typeface="Calibri"/>
              </a:rPr>
              <a:t> na preplatenie v rámci jednotkovej ceny sú aj dovolenky a PN, aj mzdy pedagogických asistentov počas prázdnin</a:t>
            </a:r>
            <a:endParaRPr b="0" lang="en-US" sz="1800" spc="-1" strike="noStrike">
              <a:solidFill>
                <a:srgbClr val="000000"/>
              </a:solidFill>
              <a:latin typeface="Calibri"/>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jednotkový náklad </a:t>
            </a:r>
            <a:r>
              <a:rPr b="1" lang="sk-SK" sz="1800" spc="-1" strike="noStrike">
                <a:solidFill>
                  <a:srgbClr val="00b050"/>
                </a:solidFill>
                <a:latin typeface="Calibri"/>
              </a:rPr>
              <a:t>na tohto PA bude alikvotne prepočítaný v prípade kratšieho prac. pomeru ako aj v prípade PA bude pracovať menej ako mesiac (napr. nástup v polovici mesiaca)</a:t>
            </a:r>
            <a:endParaRPr b="0" lang="en-US" sz="1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u="sng">
                <a:solidFill>
                  <a:srgbClr val="ff0000"/>
                </a:solidFill>
                <a:uFillTx/>
                <a:latin typeface="Calibri"/>
              </a:rPr>
              <a:t>Overovanie výdavkov – bude prebiehať v 3 troch etapách</a:t>
            </a:r>
            <a:r>
              <a:rPr b="1" lang="sk-SK" sz="1600" spc="-1" strike="noStrike">
                <a:solidFill>
                  <a:srgbClr val="ff0000"/>
                </a:solidFill>
                <a:latin typeface="Calibri"/>
              </a:rPr>
              <a:t>:</a:t>
            </a:r>
            <a:endParaRPr b="0" lang="en-US" sz="16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rámci hodnotiaceho procesu žiadosti o nenávratný finančný príspevok (t.j. projektu) – odbor posudzovania projektov – už sa uskutočnilo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rámci kontroly žiadosti o platbu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čas kontroly na mieste</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99680" y="274320"/>
            <a:ext cx="818676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ff0000"/>
                </a:solidFill>
                <a:latin typeface="Calibri"/>
              </a:rPr>
              <a:t>štandardná stupnica jednotkových nákladov -</a:t>
            </a:r>
            <a:r>
              <a:rPr b="1" lang="sk-SK" sz="2000" spc="-1" strike="noStrike">
                <a:solidFill>
                  <a:srgbClr val="ff0000"/>
                </a:solidFill>
                <a:latin typeface="Calibri"/>
              </a:rPr>
              <a:t> pedagogický asistent </a:t>
            </a:r>
            <a:r>
              <a:rPr b="0" lang="sk-SK" sz="2000" spc="-1" strike="noStrike">
                <a:solidFill>
                  <a:srgbClr val="ff0000"/>
                </a:solidFill>
                <a:latin typeface="Calibri"/>
              </a:rPr>
              <a:t>- mesačné náklady na novovytvorené miesto pedagogického asistenta v materských a v základných školách III</a:t>
            </a:r>
            <a:r>
              <a:rPr b="0" lang="sk-SK" sz="2000" spc="-1" strike="noStrike">
                <a:solidFill>
                  <a:srgbClr val="e46c0a"/>
                </a:solidFill>
                <a:latin typeface="Calibri"/>
              </a:rPr>
              <a:t>.</a:t>
            </a:r>
            <a:endParaRPr b="0" lang="en-US" sz="2000" spc="-1" strike="noStrike">
              <a:solidFill>
                <a:srgbClr val="000000"/>
              </a:solidFill>
              <a:latin typeface="Calibri"/>
            </a:endParaRPr>
          </a:p>
        </p:txBody>
      </p:sp>
      <p:sp>
        <p:nvSpPr>
          <p:cNvPr id="87" name=""/>
          <p:cNvSpPr txBox="1"/>
          <p:nvPr/>
        </p:nvSpPr>
        <p:spPr>
          <a:xfrm>
            <a:off x="499680" y="1125360"/>
            <a:ext cx="8186760" cy="480384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ŽoP</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zdokladovania skutočne zamestnaných PA, ktorých mzdy sú hradené na mesačnej báze</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dokumenty predkladané ako súčasť ŽoP:</a:t>
            </a:r>
            <a:endParaRPr b="0" lang="en-US" sz="1800" spc="-1" strike="noStrike">
              <a:solidFill>
                <a:srgbClr val="000000"/>
              </a:solidFill>
              <a:latin typeface="Calibri"/>
            </a:endParaRPr>
          </a:p>
          <a:p>
            <a:pPr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 </a:t>
            </a:r>
            <a:r>
              <a:rPr b="1" lang="sk-SK" sz="1800" spc="-1" strike="noStrike">
                <a:solidFill>
                  <a:srgbClr val="00b050"/>
                </a:solidFill>
                <a:latin typeface="Calibri"/>
              </a:rPr>
              <a:t>raz ročne - čestné prehlásenie štatutára/riaditeľa školy o celkovom počte žiakov ZŠ/veľkosti MŠ </a:t>
            </a:r>
            <a:endParaRPr b="0" lang="en-US" sz="1800" spc="-1" strike="noStrike">
              <a:solidFill>
                <a:srgbClr val="000000"/>
              </a:solidFill>
              <a:latin typeface="Calibri"/>
            </a:endParaRPr>
          </a:p>
          <a:p>
            <a:pPr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raz ročne a okamžite pri každej zmene - platná pracovná zmluva resp. jej dodatky člena pedagogického asistenta; dokument/dokumenty preukazujúce/potvrdzujúce kvalifikáciu PA; štatutárom školy potvrdený menný zoznam pedagogických asistentov a veľkosť úväzku jednotlivých pedagogických asistentov, ktorých mzda v danom mesiaci je financovaná prostredníctvom JC; 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 </a:t>
            </a:r>
            <a:endParaRPr b="0" lang="en-US" sz="1300" spc="-1" strike="noStrike">
              <a:solidFill>
                <a:srgbClr val="000000"/>
              </a:solidFill>
              <a:latin typeface="Calibri"/>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99680" y="274680"/>
            <a:ext cx="81867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štandardná stupnica jednotkových nákladov -</a:t>
            </a:r>
            <a:r>
              <a:rPr b="1" lang="sk-SK" sz="2400" spc="-1" strike="noStrike">
                <a:solidFill>
                  <a:srgbClr val="ff0000"/>
                </a:solidFill>
                <a:latin typeface="Calibri"/>
              </a:rPr>
              <a:t> pedagogický asistent </a:t>
            </a:r>
            <a:r>
              <a:rPr b="0" lang="sk-SK" sz="2400" spc="-1" strike="noStrike">
                <a:solidFill>
                  <a:srgbClr val="ff0000"/>
                </a:solidFill>
                <a:latin typeface="Calibri"/>
              </a:rPr>
              <a:t>- mesačné náklady na novovytvorené miesto pedagogického asistenta v materských a v základných školách IV. </a:t>
            </a:r>
            <a:endParaRPr b="0" lang="en-US" sz="2400" spc="-1" strike="noStrike">
              <a:solidFill>
                <a:srgbClr val="000000"/>
              </a:solidFill>
              <a:latin typeface="Calibri"/>
            </a:endParaRPr>
          </a:p>
        </p:txBody>
      </p:sp>
      <p:sp>
        <p:nvSpPr>
          <p:cNvPr id="89" name=""/>
          <p:cNvSpPr txBox="1"/>
          <p:nvPr/>
        </p:nvSpPr>
        <p:spPr>
          <a:xfrm>
            <a:off x="499680" y="1628640"/>
            <a:ext cx="8186760" cy="4321440"/>
          </a:xfrm>
          <a:prstGeom prst="rect">
            <a:avLst/>
          </a:prstGeom>
          <a:noFill/>
          <a:ln w="0">
            <a:noFill/>
          </a:ln>
        </p:spPr>
        <p:txBody>
          <a:bodyPr anchor="t">
            <a:normAutofit fontScale="96000"/>
          </a:bodyPr>
          <a:p>
            <a:pPr marL="329040" indent="-329040" algn="just">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štvrťročne </a:t>
            </a:r>
            <a:r>
              <a:rPr b="1" lang="sk-SK" sz="1800" spc="-1" strike="noStrike">
                <a:solidFill>
                  <a:srgbClr val="00b050"/>
                </a:solidFill>
                <a:latin typeface="Calibri"/>
              </a:rPr>
              <a:t>- </a:t>
            </a:r>
            <a:r>
              <a:rPr b="0" lang="sk-SK" sz="1800" spc="-1" strike="noStrike">
                <a:solidFill>
                  <a:srgbClr val="00b050"/>
                </a:solidFill>
                <a:latin typeface="Calibri"/>
              </a:rPr>
              <a:t>štvrťročné správy o činnosti s výstupmi práce PA ; aktuálny Štvrťročný výkaz o práci v školstve Škol (MŠVVŠ SR) 1-04, ktorý zabezpečuje štatistické zisťovanie o zamestnanosti a čerpaní mzdových prostriedkov za oblasť regionálneho školstva</a:t>
            </a:r>
            <a:endParaRPr b="0" lang="en-US" sz="1800" spc="-1" strike="noStrike">
              <a:solidFill>
                <a:srgbClr val="000000"/>
              </a:solidFill>
              <a:latin typeface="Calibri"/>
            </a:endParaRPr>
          </a:p>
          <a:p>
            <a:pPr marL="329040" indent="-32904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u="sng">
                <a:solidFill>
                  <a:srgbClr val="ff0000"/>
                </a:solidFill>
                <a:uFillTx/>
                <a:latin typeface="Calibri"/>
              </a:rPr>
              <a:t>Overovanie v rámci kontroly na mieste</a:t>
            </a:r>
            <a:endParaRPr b="0" lang="en-US" sz="1500" spc="-1" strike="noStrike">
              <a:solidFill>
                <a:srgbClr val="000000"/>
              </a:solidFill>
              <a:latin typeface="Calibri"/>
            </a:endParaRPr>
          </a:p>
          <a:p>
            <a:pPr marL="329040" indent="-32904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b050"/>
                </a:solidFill>
                <a:latin typeface="Calibri"/>
              </a:rPr>
              <a:t>overenie, či ide o novovytvorené pracovné miesta na škole – t.j. porovnanie bude uskutočnené na základe stavu v školskom roku v ktorom projekt začal s prihliadnutím na pozície financované na základe poskytnutých normatívnych resp. nenormatívnych finančných prostriedkov štátneho rozpočtu. Do porovnania nebudú zahrnuté pracovné pozície PA vytvorené na základe dočasných podporných programov zamestnávania (vzhľadom na ich dočasný charakter – napr. ÚPSVAR) - kontrolovaný subjekt predloží zoznam pedagogických asistentov pred začatím projektu a po jeho spustení.  Do úvahy bude vzatý školský rok, v ktorom projekt začal</a:t>
            </a:r>
            <a:endParaRPr b="0" lang="en-US" sz="1800" spc="-1" strike="noStrike">
              <a:solidFill>
                <a:srgbClr val="000000"/>
              </a:solidFill>
              <a:latin typeface="Calibri"/>
            </a:endParaRPr>
          </a:p>
          <a:p>
            <a:pPr marL="329040" indent="-32904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b050"/>
                </a:solidFill>
                <a:latin typeface="Calibri"/>
              </a:rPr>
              <a:t>overenie činností deklarovaných v náplni práce ako aj kvalifikačných predpokladov</a:t>
            </a:r>
            <a:endParaRPr b="0" lang="en-US" sz="1800" spc="-1" strike="noStrike">
              <a:solidFill>
                <a:srgbClr val="000000"/>
              </a:solidFill>
              <a:latin typeface="Calibri"/>
            </a:endParaRPr>
          </a:p>
          <a:p>
            <a:pPr marL="329040" indent="-32904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 </a:t>
            </a:r>
            <a:endParaRPr b="0" lang="en-US" sz="1500" spc="-1" strike="noStrike">
              <a:solidFill>
                <a:srgbClr val="000000"/>
              </a:solidFill>
              <a:latin typeface="Calibri"/>
            </a:endParaRPr>
          </a:p>
          <a:p>
            <a:pPr marL="329040" indent="-32904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2599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ff0000"/>
                </a:solidFill>
                <a:latin typeface="Calibri"/>
              </a:rPr>
              <a:t>štandardná stupnica jednotkových nákladov - </a:t>
            </a:r>
            <a:r>
              <a:rPr b="1" lang="sk-SK" sz="2000" spc="-1" strike="noStrike">
                <a:solidFill>
                  <a:srgbClr val="ff0000"/>
                </a:solidFill>
                <a:latin typeface="Calibri"/>
              </a:rPr>
              <a:t>inkluzívny tím </a:t>
            </a:r>
            <a:r>
              <a:rPr b="0" lang="sk-SK" sz="2000" spc="-1" strike="noStrike">
                <a:solidFill>
                  <a:srgbClr val="ff0000"/>
                </a:solidFill>
                <a:latin typeface="Calibri"/>
              </a:rPr>
              <a:t>- mesačné náklady na novovytvorené miesto školského psychológa/špeciálneho pedagóga/sociálneho pedagóga   v základných školách I.</a:t>
            </a:r>
            <a:endParaRPr b="0" lang="en-US" sz="2000" spc="-1" strike="noStrike">
              <a:solidFill>
                <a:srgbClr val="000000"/>
              </a:solidFill>
              <a:latin typeface="Calibri"/>
            </a:endParaRPr>
          </a:p>
        </p:txBody>
      </p:sp>
      <p:sp>
        <p:nvSpPr>
          <p:cNvPr id="91" name=""/>
          <p:cNvSpPr txBox="1"/>
          <p:nvPr/>
        </p:nvSpPr>
        <p:spPr>
          <a:xfrm>
            <a:off x="468000" y="1413000"/>
            <a:ext cx="8186760" cy="4752720"/>
          </a:xfrm>
          <a:prstGeom prst="rect">
            <a:avLst/>
          </a:prstGeom>
          <a:noFill/>
          <a:ln w="0">
            <a:noFill/>
          </a:ln>
        </p:spPr>
        <p:txBody>
          <a:bodyPr anchor="t">
            <a:normAutofit/>
          </a:bodyPr>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zavedenie jednotkových nákladov na inkluzívny tím ako nástoj podpory inklúzie v  základných školách, vrátane základných škôl so špeciálnymi triedami, s dôrazom na žiakov z marginalizovaných rómskych komunít a na žiakov zo sociálne znevýhodneného prostredia</a:t>
            </a:r>
            <a:endParaRPr b="0" lang="en-US" sz="1500" spc="-1" strike="noStrike">
              <a:solidFill>
                <a:srgbClr val="000000"/>
              </a:solidFill>
              <a:latin typeface="Calibri"/>
            </a:endParaRPr>
          </a:p>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nevzťahuje sa na špeciálne školy</a:t>
            </a:r>
            <a:endParaRPr b="0" lang="en-US" sz="1500" spc="-1" strike="noStrike">
              <a:solidFill>
                <a:srgbClr val="000000"/>
              </a:solidFill>
              <a:latin typeface="Calibri"/>
            </a:endParaRPr>
          </a:p>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inkluzívne tímy sú tvorené špeciálnym pedagógom a/alebo školským psychológom a/alebo sociálnym pedagógom</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novovytvorené pracovné miesta </a:t>
            </a:r>
            <a:r>
              <a:rPr b="0" lang="sk-SK" sz="1500" spc="-1" strike="noStrike">
                <a:solidFill>
                  <a:srgbClr val="00b050"/>
                </a:solidFill>
                <a:latin typeface="Calibri"/>
              </a:rPr>
              <a:t>nad rámec existujúcich miest v školách </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definované kvalifikačné predpoklady </a:t>
            </a:r>
            <a:r>
              <a:rPr b="0" lang="sk-SK" sz="1500" spc="-1" strike="noStrike">
                <a:solidFill>
                  <a:srgbClr val="00b050"/>
                </a:solidFill>
                <a:latin typeface="Calibri"/>
              </a:rPr>
              <a:t>+ činnosti oprávnené pre financované v rámci SCO (príloha č. 4 výzvy zoznam oprávnených a neoprávnených výdavkov)</a:t>
            </a:r>
            <a:endParaRPr b="0" lang="en-US" sz="1500" spc="-1" strike="noStrike">
              <a:solidFill>
                <a:srgbClr val="000000"/>
              </a:solidFill>
              <a:latin typeface="Calibri"/>
            </a:endParaRPr>
          </a:p>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kľúč prideľovania  členov inkluzívneho tímu (úväzkov) – v závislosti od veľkosti ZŠ - zloženie členov inkluzívneho tímu vychádza z potrieb školy a rozhoduje o ňom škola.  V školách s väčším počtom OZ môže byť max. 1 úväzok školského psychológa, a to aj vtedy keď počet členov inluzívneho tímu je dva a viac. </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Štandardná stupnica jednotkových nákladov je  </a:t>
            </a:r>
            <a:r>
              <a:rPr b="0" lang="en-GB" sz="1500" spc="-1" strike="noStrike">
                <a:solidFill>
                  <a:srgbClr val="ff0000"/>
                </a:solidFill>
                <a:latin typeface="Calibri"/>
              </a:rPr>
              <a:t>školský psychológ -   1 235 EUR/mesačne</a:t>
            </a:r>
            <a:r>
              <a:rPr b="0" lang="sk-SK" sz="1500" spc="-1" strike="noStrike">
                <a:solidFill>
                  <a:srgbClr val="ff0000"/>
                </a:solidFill>
                <a:latin typeface="Calibri"/>
              </a:rPr>
              <a:t> a </a:t>
            </a:r>
            <a:endParaRPr b="0" lang="en-US" sz="1500" spc="-1" strike="noStrike">
              <a:solidFill>
                <a:srgbClr val="000000"/>
              </a:solidFill>
              <a:latin typeface="Calibri"/>
            </a:endParaRPr>
          </a:p>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        </a:t>
            </a:r>
            <a:r>
              <a:rPr b="0" lang="sk-SK" sz="1500" spc="-1" strike="noStrike">
                <a:solidFill>
                  <a:srgbClr val="ff0000"/>
                </a:solidFill>
                <a:latin typeface="Calibri"/>
              </a:rPr>
              <a:t>špeciály pedagóg/sociálny pedagóg –  1 440 EUR/mesačne</a:t>
            </a:r>
            <a:endParaRPr b="0" lang="en-US" sz="1500" spc="-1" strike="noStrike">
              <a:solidFill>
                <a:srgbClr val="000000"/>
              </a:solidFill>
              <a:latin typeface="Calibri"/>
            </a:endParaRPr>
          </a:p>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Štandardné stupnice jednotkových nákladov sú tvorené personálnymi výdavkami (mesačná suma hrubá mzda; odvody zamestnávateľa) a 15 % paušálnou sadzbou na nepriame výdavky z priamych personálnych výdavkov - v zmysle čl. 68 ods. 1b nariadenia č. 1303/2013.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ff0000"/>
                </a:solidFill>
                <a:latin typeface="Calibri"/>
              </a:rPr>
              <a:t>štandardná stupnica jednotkových nákladov - </a:t>
            </a:r>
            <a:r>
              <a:rPr b="1" lang="sk-SK" sz="2200" spc="-1" strike="noStrike">
                <a:solidFill>
                  <a:srgbClr val="ff0000"/>
                </a:solidFill>
                <a:latin typeface="Calibri"/>
              </a:rPr>
              <a:t>inkluzívny tím </a:t>
            </a:r>
            <a:r>
              <a:rPr b="0" lang="sk-SK" sz="2200" spc="-1" strike="noStrike">
                <a:solidFill>
                  <a:srgbClr val="ff0000"/>
                </a:solidFill>
                <a:latin typeface="Calibri"/>
              </a:rPr>
              <a:t>- mesačné náklady na novovytvorené miesto školského psychológa/špeciálneho pedagóga/sociálneho pedagóga   v základných školách II.</a:t>
            </a:r>
            <a:endParaRPr b="0" lang="en-US" sz="2200" spc="-1" strike="noStrike">
              <a:solidFill>
                <a:srgbClr val="000000"/>
              </a:solidFill>
              <a:latin typeface="Calibri"/>
            </a:endParaRPr>
          </a:p>
        </p:txBody>
      </p:sp>
      <p:sp>
        <p:nvSpPr>
          <p:cNvPr id="93" name=""/>
          <p:cNvSpPr txBox="1"/>
          <p:nvPr/>
        </p:nvSpPr>
        <p:spPr>
          <a:xfrm>
            <a:off x="499680" y="1599840"/>
            <a:ext cx="8186760" cy="43498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oprávnenými</a:t>
            </a:r>
            <a:r>
              <a:rPr b="0" lang="sk-SK" sz="1500" spc="-1" strike="noStrike">
                <a:solidFill>
                  <a:srgbClr val="00b050"/>
                </a:solidFill>
                <a:latin typeface="Calibri"/>
              </a:rPr>
              <a:t> na preplatenie v rámci jednotkovej ceny sú aj dovolenky a PN, aj mzdy pedagogických asistentov počas prázdnin; </a:t>
            </a:r>
            <a:endParaRPr b="0" lang="en-US" sz="1500" spc="-1" strike="noStrike">
              <a:solidFill>
                <a:srgbClr val="000000"/>
              </a:solidFill>
              <a:latin typeface="Calibri"/>
            </a:endParaRPr>
          </a:p>
          <a:p>
            <a:pPr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jednotkový náklad </a:t>
            </a:r>
            <a:r>
              <a:rPr b="0" lang="sk-SK" sz="1500" spc="-1" strike="noStrike">
                <a:solidFill>
                  <a:srgbClr val="00b050"/>
                </a:solidFill>
                <a:latin typeface="Calibri"/>
              </a:rPr>
              <a:t>na tohto PA bude alikvotne prepočítaný v prípade kratšieho prac. pomeru ako aj v prípade PA bude pracovať menej ako mesiac (napr. nástup v polovici mesiaca) Je možné kombinovať jednotlivé pracovné pozície členov inkluzívneho tímu, pričom výška jednotkového nákladu sa alikvotne prepočíta</a:t>
            </a:r>
            <a:endParaRPr b="0" lang="en-US" sz="15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u="sng">
                <a:solidFill>
                  <a:srgbClr val="ff0000"/>
                </a:solidFill>
                <a:uFillTx/>
                <a:latin typeface="Calibri"/>
              </a:rPr>
              <a:t>Overovanie výdavkov – bude prebiehať v 3 troch etapách</a:t>
            </a:r>
            <a:r>
              <a:rPr b="1" lang="sk-SK" sz="1600" spc="-1" strike="noStrike">
                <a:solidFill>
                  <a:srgbClr val="ff0000"/>
                </a:solidFill>
                <a:latin typeface="Calibri"/>
              </a:rPr>
              <a:t>:</a:t>
            </a:r>
            <a:endParaRPr b="0" lang="en-US" sz="1600" spc="-1" strike="noStrike">
              <a:solidFill>
                <a:srgbClr val="000000"/>
              </a:solidFill>
              <a:latin typeface="Calibri"/>
            </a:endParaRPr>
          </a:p>
          <a:p>
            <a:pPr>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v rámci hodnotiaceho procesu žiadosti o nenávratný finančný príspevok (t.j. projektu) – odbor posudzovania projektov </a:t>
            </a:r>
            <a:endParaRPr b="0" lang="en-US" sz="1500" spc="-1" strike="noStrike">
              <a:solidFill>
                <a:srgbClr val="000000"/>
              </a:solidFill>
              <a:latin typeface="Calibri"/>
            </a:endParaRPr>
          </a:p>
          <a:p>
            <a:pPr>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v rámci kontroly žiadosti o platbu </a:t>
            </a:r>
            <a:endParaRPr b="0" lang="en-US" sz="1500" spc="-1" strike="noStrike">
              <a:solidFill>
                <a:srgbClr val="000000"/>
              </a:solidFill>
              <a:latin typeface="Calibri"/>
            </a:endParaRPr>
          </a:p>
          <a:p>
            <a:pPr>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očas kontroly na mieste</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ff0000"/>
                </a:solidFill>
                <a:latin typeface="Calibri"/>
              </a:rPr>
              <a:t>štandardná stupnica jednotkových nákladov - </a:t>
            </a:r>
            <a:r>
              <a:rPr b="1" lang="sk-SK" sz="2200" spc="-1" strike="noStrike">
                <a:solidFill>
                  <a:srgbClr val="ff0000"/>
                </a:solidFill>
                <a:latin typeface="Calibri"/>
              </a:rPr>
              <a:t>inkluzívny tím </a:t>
            </a:r>
            <a:r>
              <a:rPr b="0" lang="sk-SK" sz="2200" spc="-1" strike="noStrike">
                <a:solidFill>
                  <a:srgbClr val="ff0000"/>
                </a:solidFill>
                <a:latin typeface="Calibri"/>
              </a:rPr>
              <a:t>- mesačné náklady na novovytvorené miesto školského psychológa/špeciálneho pedagóga/sociálneho pedagóga   v základných školách III.</a:t>
            </a:r>
            <a:endParaRPr b="0" lang="en-US" sz="2200" spc="-1" strike="noStrike">
              <a:solidFill>
                <a:srgbClr val="000000"/>
              </a:solidFill>
              <a:latin typeface="Calibri"/>
            </a:endParaRPr>
          </a:p>
        </p:txBody>
      </p:sp>
      <p:sp>
        <p:nvSpPr>
          <p:cNvPr id="95" name=""/>
          <p:cNvSpPr txBox="1"/>
          <p:nvPr/>
        </p:nvSpPr>
        <p:spPr>
          <a:xfrm>
            <a:off x="499680" y="1413000"/>
            <a:ext cx="8186760" cy="468000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ŽoP</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zdokladovanie skutočne zamestnaných členov inkluzívneho tímu, ktorých mzdy sú hradené na mesačnej báze</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dokumenty predkladané ako súčasť ŽoP:</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 </a:t>
            </a:r>
            <a:r>
              <a:rPr b="1" lang="sk-SK" sz="1500" spc="-1" strike="noStrike">
                <a:solidFill>
                  <a:srgbClr val="00b050"/>
                </a:solidFill>
                <a:latin typeface="Calibri"/>
              </a:rPr>
              <a:t>raz ročne </a:t>
            </a:r>
            <a:r>
              <a:rPr b="0" lang="sk-SK" sz="1500" spc="-1" strike="noStrike">
                <a:solidFill>
                  <a:srgbClr val="00b050"/>
                </a:solidFill>
                <a:latin typeface="Calibri"/>
              </a:rPr>
              <a:t>-  čestné prehlásenie štatutára/riaditeľa školy o celkovom počte žiakov ZŠ </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b050"/>
                </a:solidFill>
                <a:latin typeface="Calibri"/>
              </a:rPr>
              <a:t>raz ročne </a:t>
            </a:r>
            <a:r>
              <a:rPr b="0" lang="sk-SK" sz="1500" spc="-1" strike="noStrike">
                <a:solidFill>
                  <a:srgbClr val="00b050"/>
                </a:solidFill>
                <a:latin typeface="Calibri"/>
              </a:rPr>
              <a:t>a okamžite pri každej zmene - platná pracovná zmluva resp. jej dodatky člena inkluzívneho tímu; dokument/dokumenty preukazujúce/potvrdzujúce kvalifikáciu člena/členov inkluzívneho tímu; štatutárom školy potvrdený menný zoznam členov inkluzívneho tímu a veľkosť  úväzku jednotlivých členov inkluzívneho tímu, ktorých mzda v danom mesiaci je financovaná prostredníctvom JC; 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a:t>
            </a:r>
            <a:endParaRPr b="0" lang="en-US" sz="1500" spc="-1" strike="noStrike">
              <a:solidFill>
                <a:srgbClr val="000000"/>
              </a:solidFill>
              <a:latin typeface="Calibri"/>
            </a:endParaRPr>
          </a:p>
          <a:p>
            <a:pPr algn="just">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ff0000"/>
                </a:solidFill>
                <a:latin typeface="Calibri"/>
              </a:rPr>
              <a:t>štandardná stupnica jednotkových nákladov - </a:t>
            </a:r>
            <a:r>
              <a:rPr b="1" lang="sk-SK" sz="2200" spc="-1" strike="noStrike">
                <a:solidFill>
                  <a:srgbClr val="ff0000"/>
                </a:solidFill>
                <a:latin typeface="Calibri"/>
              </a:rPr>
              <a:t>inkluzívny tím </a:t>
            </a:r>
            <a:r>
              <a:rPr b="0" lang="sk-SK" sz="2200" spc="-1" strike="noStrike">
                <a:solidFill>
                  <a:srgbClr val="ff0000"/>
                </a:solidFill>
                <a:latin typeface="Calibri"/>
              </a:rPr>
              <a:t>- mesačné náklady na novovytvorené miesto školského psychológa/špeciálneho pedagóga/sociálneho pedagóga   v základných školách IV.</a:t>
            </a:r>
            <a:endParaRPr b="0" lang="en-US" sz="2200" spc="-1" strike="noStrike">
              <a:solidFill>
                <a:srgbClr val="000000"/>
              </a:solidFill>
              <a:latin typeface="Calibri"/>
            </a:endParaRPr>
          </a:p>
        </p:txBody>
      </p:sp>
      <p:sp>
        <p:nvSpPr>
          <p:cNvPr id="97" name=""/>
          <p:cNvSpPr txBox="1"/>
          <p:nvPr/>
        </p:nvSpPr>
        <p:spPr>
          <a:xfrm>
            <a:off x="499680" y="1483920"/>
            <a:ext cx="8186760" cy="453708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ff0000"/>
                </a:solidFill>
                <a:latin typeface="Calibri"/>
              </a:rPr>
              <a:t>štvrťročne </a:t>
            </a:r>
            <a:r>
              <a:rPr b="0" lang="sk-SK" sz="1500" spc="-1" strike="noStrike">
                <a:solidFill>
                  <a:srgbClr val="00b050"/>
                </a:solidFill>
                <a:latin typeface="Calibri"/>
              </a:rPr>
              <a:t>- štvrťročné správy o činnosti s výstupmi práce člena/členov inkluzívneho tímu ; aktuálny Štvrťročný výkaz o práci v školstve Škol (MŠVVŠ SR) 1-04, ktorý zabezpečuje štatistické zisťovanie o zamestnanosti a čerpaní mzdových prostriedkov za oblasť regionálneho školstva</a:t>
            </a: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MŠVVaŠ SR ako SO overí údaje z čestného vyhlásenia o celkovom  počte žiakov z údajov Eduzber a z</a:t>
            </a: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aktuálneho Štvrťročného výkazu o práci v školstve Škol (MŠVVŠ SR) 1-04. Predmetom overovania bude</a:t>
            </a: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aj splnenie kvalifikačných predpokladov na základe platnej slovenskej legislatívy. </a:t>
            </a:r>
            <a:endParaRPr b="0" lang="en-US" sz="15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na mieste</a:t>
            </a:r>
            <a:endParaRPr b="0" lang="en-US" sz="14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overenie, či ide o novovytvorené pracovné miesta na škole – t.j. porovnanie bude uskutočnené na základe stavu v školskom roku v ktorom projekt začal s prihliadnutím na pozície financované na základe poskytnutých normatívnych resp. nenormatívnych finančných prostriedkov štátneho rozpočtu. Do porovnania nebudú zahrnuté pracovné pozície PA vytvorené na základe dočasných podporných programov zamestnávania (vzhľadom na ich dočasný charakter – napr. ÚPSVAR) - Nárast pozícii – t.j. či ide o novovytvorené pozície  sa bude overovať aj z porovnania údajov o počte členov inkluzívneho tímu z Edu-zberu a z aktuálneho Štvrťročného výkazu o práci v školstve Škol (MŠVVŠ SR) 1-04 . kontrolovaný subjekt predloží zoznam pedagogických asistentov pred začatím projektu a po jeho spustení.  Do úvahy bude vzatí školský rok, v ktorom projekt začal.</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overenie činností deklarovaných v náplni práce ako aj overenie kvalifikačných predpokladov</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ff0000"/>
                </a:solidFill>
                <a:latin typeface="Calibri"/>
              </a:rPr>
              <a:t>štandardná stupnica jednotkových nákladov </a:t>
            </a:r>
            <a:r>
              <a:rPr b="1" lang="sk-SK" sz="2200" spc="-1" strike="noStrike">
                <a:solidFill>
                  <a:srgbClr val="ff0000"/>
                </a:solidFill>
                <a:latin typeface="Calibri"/>
              </a:rPr>
              <a:t>- asistent učiteľa </a:t>
            </a:r>
            <a:r>
              <a:rPr b="0" lang="sk-SK" sz="2200" spc="-1" strike="noStrike">
                <a:solidFill>
                  <a:srgbClr val="ff0000"/>
                </a:solidFill>
                <a:latin typeface="Calibri"/>
              </a:rPr>
              <a:t>- vytvorenie a obsadenie miesta asistenta učiteľa  I.</a:t>
            </a:r>
            <a:endParaRPr b="0" lang="en-US" sz="2200" spc="-1" strike="noStrike">
              <a:solidFill>
                <a:srgbClr val="000000"/>
              </a:solidFill>
              <a:latin typeface="Calibri"/>
            </a:endParaRPr>
          </a:p>
        </p:txBody>
      </p:sp>
      <p:sp>
        <p:nvSpPr>
          <p:cNvPr id="99" name=""/>
          <p:cNvSpPr txBox="1"/>
          <p:nvPr/>
        </p:nvSpPr>
        <p:spPr>
          <a:xfrm>
            <a:off x="499680" y="1268280"/>
            <a:ext cx="8186760" cy="4608720"/>
          </a:xfrm>
          <a:prstGeom prst="rect">
            <a:avLst/>
          </a:prstGeom>
          <a:noFill/>
          <a:ln w="0">
            <a:noFill/>
          </a:ln>
        </p:spPr>
        <p:txBody>
          <a:bodyPr anchor="t">
            <a:normAutofit/>
          </a:bodyPr>
          <a:p>
            <a:pPr marL="343080" indent="-343080" algn="just">
              <a:lnSpc>
                <a:spcPct val="150000"/>
              </a:lnSpc>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zavedenie jednotkových nákladov na asistentov učiteľa (ďalej “AU”) ako nástoja integrácie žiakov so zdravotným znevýhodnením do hlavného prúdu vzdelávacieho procesu </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u="sng">
                <a:solidFill>
                  <a:srgbClr val="ff0000"/>
                </a:solidFill>
                <a:uFillTx/>
                <a:latin typeface="Calibri"/>
              </a:rPr>
              <a:t>novovytvorené pracovné miesta </a:t>
            </a:r>
            <a:r>
              <a:rPr b="0" lang="sk-SK" sz="1500" spc="-1" strike="noStrike">
                <a:solidFill>
                  <a:srgbClr val="ff0000"/>
                </a:solidFill>
                <a:latin typeface="Calibri"/>
              </a:rPr>
              <a:t>nad rámec existujúcich miest v školách </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ff0000"/>
                </a:solidFill>
                <a:latin typeface="Calibri"/>
              </a:rPr>
              <a:t>definované kvalifikačné predpoklady + činnosti oprávnené pre financované</a:t>
            </a:r>
            <a:r>
              <a:rPr b="0" lang="sk-SK" sz="1500" spc="-1" strike="noStrike">
                <a:solidFill>
                  <a:srgbClr val="ff0000"/>
                </a:solidFill>
                <a:latin typeface="Calibri"/>
              </a:rPr>
              <a:t> v rámci SCO (príloha č. 4 výzvy zoznam oprávnených a neoprávnených výdavkov)</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kľúč prideľovania  členov inkluzívneho tímu (úväzkov) – v závislosti od veľkosti ZŠ</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ff0000"/>
                </a:solidFill>
                <a:latin typeface="Calibri"/>
              </a:rPr>
              <a:t>kľúč prideľovania AU (úväzkov AU)</a:t>
            </a:r>
            <a:r>
              <a:rPr b="0" lang="sk-SK" sz="1500" spc="-1" strike="noStrike">
                <a:solidFill>
                  <a:srgbClr val="000000"/>
                </a:solidFill>
                <a:latin typeface="Calibri"/>
              </a:rPr>
              <a:t> na jednotlivé školy (ZŠ) – v závislosti od veľkosti školy (ZŠ)</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u="sng">
                <a:solidFill>
                  <a:srgbClr val="ff0000"/>
                </a:solidFill>
                <a:uFillTx/>
                <a:latin typeface="Calibri"/>
              </a:rPr>
              <a:t>štandardná stupnica jednotkových nákladov je 865 EUR/mesačne </a:t>
            </a:r>
            <a:endParaRPr b="0" lang="en-US" sz="1500" spc="-1" strike="noStrike">
              <a:solidFill>
                <a:srgbClr val="000000"/>
              </a:solidFill>
              <a:latin typeface="Calibri"/>
            </a:endParaRPr>
          </a:p>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štandardná stupnica jednotkových nákladov je normatívom na personálne výdavky asistenta učiteľa a 15 % paušálnou sadzbou na nepriame výdavky z priamych personálnych výdavkov - v zmysle čl. 68 ods. 1b nariadenia č. 1303/2013. </a:t>
            </a:r>
            <a:endParaRPr b="0" lang="en-US" sz="1500" spc="-1" strike="noStrike">
              <a:solidFill>
                <a:srgbClr val="000000"/>
              </a:solidFill>
              <a:latin typeface="Calibri"/>
            </a:endParaRPr>
          </a:p>
          <a:p>
            <a:pPr marL="343080" indent="-343080"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oprávnenými na preplatenie v rámci jednotkovej ceny sú aj dovolenky a PN, aj mzdy pedagogických asistentov počas prázdnin; </a:t>
            </a:r>
            <a:endParaRPr b="0" lang="en-US" sz="1500" spc="-1" strike="noStrike">
              <a:solidFill>
                <a:srgbClr val="000000"/>
              </a:solidFill>
              <a:latin typeface="Calibri"/>
            </a:endParaRPr>
          </a:p>
          <a:p>
            <a:pPr marL="343080" indent="-343080" algn="just">
              <a:spcBef>
                <a:spcPts val="37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jednotkový náklad </a:t>
            </a:r>
            <a:r>
              <a:rPr b="0" lang="sk-SK" sz="1500" spc="-1" strike="noStrike">
                <a:solidFill>
                  <a:srgbClr val="00b050"/>
                </a:solidFill>
                <a:latin typeface="Calibri"/>
              </a:rPr>
              <a:t>na tohto PA bude alikvotne prepočítaný v prípade kratšieho prac. pomeru ako aj v prípade PA bude </a:t>
            </a:r>
            <a:r>
              <a:rPr b="1" lang="sk-SK" sz="1500" spc="-1" strike="noStrike">
                <a:solidFill>
                  <a:srgbClr val="ff0000"/>
                </a:solidFill>
                <a:latin typeface="Calibri"/>
              </a:rPr>
              <a:t>pracovať menej ako mesiac </a:t>
            </a:r>
            <a:r>
              <a:rPr b="0" lang="sk-SK" sz="1500" spc="-1" strike="noStrike">
                <a:solidFill>
                  <a:srgbClr val="00b050"/>
                </a:solidFill>
                <a:latin typeface="Calibri"/>
              </a:rPr>
              <a:t>(napr. nástup v polovici mesiaca) Je možné kombinovať jednotlivé pracovné pozície členov inkluzívneho tímu, pričom výška jednotkového nákladu sa alikvotne prepočíta</a:t>
            </a:r>
            <a:endParaRPr b="0" lang="en-US" sz="15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Všeobecné pravidlá oprávnenosti výdavkov </a:t>
            </a:r>
            <a:endParaRPr b="0" lang="en-US" sz="36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ok je realizovaný na oprávnenom území;</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ok je primeraný, t.j. zodpovedá obvyklým cenám v danom mieste a čase a zodpovedá potrebám projektu;</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pĺňa podmienky hospodárnosti, efektívnosti a účelnost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ff0000"/>
                </a:solidFill>
                <a:latin typeface="Calibri"/>
              </a:rPr>
              <a:t>štandardná stupnica jednotkových nákladov </a:t>
            </a:r>
            <a:r>
              <a:rPr b="1" lang="sk-SK" sz="2000" spc="-1" strike="noStrike">
                <a:solidFill>
                  <a:srgbClr val="ff0000"/>
                </a:solidFill>
                <a:latin typeface="Calibri"/>
              </a:rPr>
              <a:t>- asistent učiteľa </a:t>
            </a:r>
            <a:r>
              <a:rPr b="0" lang="sk-SK" sz="2000" spc="-1" strike="noStrike">
                <a:solidFill>
                  <a:srgbClr val="ff0000"/>
                </a:solidFill>
                <a:latin typeface="Calibri"/>
              </a:rPr>
              <a:t>- vytvorenie a obsadenie miesta asistenta učiteľa  II.</a:t>
            </a:r>
            <a:endParaRPr b="0" lang="en-US" sz="2000" spc="-1" strike="noStrike">
              <a:solidFill>
                <a:srgbClr val="000000"/>
              </a:solidFill>
              <a:latin typeface="Calibri"/>
            </a:endParaRPr>
          </a:p>
        </p:txBody>
      </p:sp>
      <p:sp>
        <p:nvSpPr>
          <p:cNvPr id="101" name=""/>
          <p:cNvSpPr txBox="1"/>
          <p:nvPr/>
        </p:nvSpPr>
        <p:spPr>
          <a:xfrm>
            <a:off x="610920" y="1197000"/>
            <a:ext cx="8186760" cy="475128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ýdavkov – bude prebiehať v 3 troch etapách</a:t>
            </a:r>
            <a:r>
              <a:rPr b="1" lang="sk-SK" sz="1400" spc="-1" strike="noStrike">
                <a:solidFill>
                  <a:srgbClr val="ff0000"/>
                </a:solidFill>
                <a:latin typeface="Calibri"/>
              </a:rPr>
              <a:t>:</a:t>
            </a:r>
            <a:endParaRPr b="0" lang="en-US" sz="14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v rámci hodnotiaceho procesu žiadosti o nenávratný finančný príspevok (t.j. projektu) – odbor posudzovania projektov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v rámci kontroly žiadosti o platbu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očas kontroly na mieste</a:t>
            </a:r>
            <a:endParaRPr b="0" lang="en-US" sz="15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žiadosti o platbu </a:t>
            </a:r>
            <a:endParaRPr b="0" lang="en-US" sz="14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Finančné prostriedky sú uhrádzané prijímateľovi na základe zdokladovania skutočne zamestnaných AU, ktorých mzdy sú hradené na mesačnej báze. </a:t>
            </a: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rijímatelia budú ako súčasť/prílohu žiadosti o platbu predkladať – uvedené predstavuje </a:t>
            </a:r>
            <a:r>
              <a:rPr b="0" lang="sk-SK" sz="1500" spc="-1" strike="noStrike">
                <a:solidFill>
                  <a:srgbClr val="ff0000"/>
                </a:solidFill>
                <a:latin typeface="Calibri"/>
              </a:rPr>
              <a:t>podmienky preplatenia JC: </a:t>
            </a:r>
            <a:endParaRPr b="0" lang="en-US" sz="15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b050"/>
                </a:solidFill>
                <a:latin typeface="Calibri"/>
              </a:rPr>
              <a:t>Raz ročne: </a:t>
            </a:r>
            <a:endParaRPr b="0" lang="en-US" sz="1400" spc="-1" strike="noStrike">
              <a:solidFill>
                <a:srgbClr val="000000"/>
              </a:solidFill>
              <a:latin typeface="Calibri"/>
            </a:endParaRPr>
          </a:p>
          <a:p>
            <a:pPr algn="just">
              <a:spcBef>
                <a:spcPts val="34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b050"/>
                </a:solidFill>
                <a:latin typeface="Calibri"/>
              </a:rPr>
              <a:t>čestné prehlásenie štatutára/riaditeľa školy o celkovom počte žiakov ZŠ/veľkosti MŠ </a:t>
            </a:r>
            <a:endParaRPr b="0" lang="en-US" sz="1400" spc="-1" strike="noStrike">
              <a:solidFill>
                <a:srgbClr val="000000"/>
              </a:solidFill>
              <a:latin typeface="Calibri"/>
            </a:endParaRPr>
          </a:p>
          <a:p>
            <a:pPr algn="just">
              <a:spcBef>
                <a:spcPts val="34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b050"/>
                </a:solidFill>
                <a:latin typeface="Calibri"/>
              </a:rPr>
              <a:t>odporúčanie centra špeciálno-pedagogického poradenstva a/alebo centra pedagogicko-psychologického poradenstva a prevencie podľa čl. 3 Metodického pokynu č. 66/2015 k postupu pri predkladaní požiadaviek na finančné prostriedky na osobné náklady asistenta učiteľa pre žiakov so zdravotným znevýhodnením (http://www.minedu.sk/15170-sk/metodicky-pokyn-c-662015-k-postupu-pri-predkladani-poziadaviek-na-financne-prostriedky-na-osobne-naklady-asistenta-ucitela-pre-ziakov-so-zdravotnym-znevyhodnenim</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ff0000"/>
                </a:solidFill>
                <a:latin typeface="Calibri"/>
              </a:rPr>
              <a:t>štandardná stupnica jednotkových nákladov </a:t>
            </a:r>
            <a:r>
              <a:rPr b="1" lang="sk-SK" sz="2000" spc="-1" strike="noStrike">
                <a:solidFill>
                  <a:srgbClr val="ff0000"/>
                </a:solidFill>
                <a:latin typeface="Calibri"/>
              </a:rPr>
              <a:t>- asistent učiteľa </a:t>
            </a:r>
            <a:r>
              <a:rPr b="0" lang="sk-SK" sz="2000" spc="-1" strike="noStrike">
                <a:solidFill>
                  <a:srgbClr val="ff0000"/>
                </a:solidFill>
                <a:latin typeface="Calibri"/>
              </a:rPr>
              <a:t>- vytvorenie a obsadenie miesta asistenta učiteľa  III.</a:t>
            </a:r>
            <a:endParaRPr b="0" lang="en-US" sz="2000" spc="-1" strike="noStrike">
              <a:solidFill>
                <a:srgbClr val="000000"/>
              </a:solidFill>
              <a:latin typeface="Calibri"/>
            </a:endParaRPr>
          </a:p>
        </p:txBody>
      </p:sp>
      <p:sp>
        <p:nvSpPr>
          <p:cNvPr id="103" name=""/>
          <p:cNvSpPr txBox="1"/>
          <p:nvPr/>
        </p:nvSpPr>
        <p:spPr>
          <a:xfrm>
            <a:off x="539640" y="1268280"/>
            <a:ext cx="8229600" cy="540072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b050"/>
                </a:solidFill>
                <a:latin typeface="Calibri"/>
              </a:rPr>
              <a:t>Raz ročne a okamžite pri každej zmene: </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latná pracovná zmluva resp. jej dodatky asistenta učiteľa </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dokument/dokumenty preukazujúce/potvrdzujúce kvalifikáciu AU </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štatutárom školy potvrdený menný zoznam asistentov učiteľa a veľkosť úväzku jednotlivých asistentov učiteľa, ktorých mzda v danom mesiaci je financovaná prostredníctvom JC </a:t>
            </a:r>
            <a:endParaRPr b="0" lang="en-US" sz="1500" spc="-1" strike="noStrike">
              <a:solidFill>
                <a:srgbClr val="000000"/>
              </a:solidFill>
              <a:latin typeface="Calibri"/>
            </a:endParaRPr>
          </a:p>
          <a:p>
            <a:pPr algn="just">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 </a:t>
            </a:r>
            <a:endParaRPr b="0" lang="en-US" sz="15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b050"/>
                </a:solidFill>
                <a:latin typeface="Calibri"/>
              </a:rPr>
              <a:t>Štvrťročne: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štvrťročné správy o činnosti s výstupmi práce AU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aktuálny Štvrťročný výkaz o práci v školstve Škol (MŠVVŠ SR) 1-04, ktorý zabezpečuje štatistické zisťovanie o zamestnanosti a čerpaní mzdových prostriedkov za oblasť regionálneho školstva. </a:t>
            </a:r>
            <a:endParaRPr b="0" lang="en-US" sz="15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b050"/>
                </a:solidFill>
                <a:latin typeface="Calibri"/>
              </a:rPr>
              <a:t>Pri každej ŽoP: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zoznam žiakov, ktorí využívajú AU financovaného z projektu a zoznam žiakov, ktorí využívajú AU financovaného zo štátneho rozpočtu </a:t>
            </a:r>
            <a:endParaRPr b="0" lang="en-US" sz="1500" spc="-1" strike="noStrike">
              <a:solidFill>
                <a:srgbClr val="000000"/>
              </a:solidFill>
              <a:latin typeface="Calibri"/>
            </a:endParaRPr>
          </a:p>
          <a:p>
            <a:pPr>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e46c0a"/>
                </a:solidFill>
                <a:latin typeface="Calibri"/>
              </a:rPr>
              <a:t>štandardná stupnica jednotkových nákladov </a:t>
            </a:r>
            <a:r>
              <a:rPr b="1" lang="sk-SK" sz="2000" spc="-1" strike="noStrike">
                <a:solidFill>
                  <a:srgbClr val="e46c0a"/>
                </a:solidFill>
                <a:latin typeface="Calibri"/>
              </a:rPr>
              <a:t>- asistent učiteľa </a:t>
            </a:r>
            <a:r>
              <a:rPr b="0" lang="sk-SK" sz="2000" spc="-1" strike="noStrike">
                <a:solidFill>
                  <a:srgbClr val="e46c0a"/>
                </a:solidFill>
                <a:latin typeface="Calibri"/>
              </a:rPr>
              <a:t>- vytvorenie a obsadenie miesta asistenta učiteľa  IV.</a:t>
            </a:r>
            <a:endParaRPr b="0" lang="en-US" sz="2000" spc="-1" strike="noStrike">
              <a:solidFill>
                <a:srgbClr val="000000"/>
              </a:solidFill>
              <a:latin typeface="Calibri"/>
            </a:endParaRPr>
          </a:p>
        </p:txBody>
      </p:sp>
      <p:sp>
        <p:nvSpPr>
          <p:cNvPr id="105" name="PlaceHolder 2"/>
          <p:cNvSpPr>
            <a:spLocks noGrp="1"/>
          </p:cNvSpPr>
          <p:nvPr>
            <p:ph/>
          </p:nvPr>
        </p:nvSpPr>
        <p:spPr>
          <a:xfrm>
            <a:off x="324000" y="1196640"/>
            <a:ext cx="8362800" cy="525636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ff0000"/>
                </a:solidFill>
                <a:uFillTx/>
                <a:latin typeface="Calibri"/>
              </a:rPr>
              <a:t>Overovanie počas kontroly na mieste </a:t>
            </a:r>
            <a:endParaRPr b="0" lang="en-US" sz="16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očas kontroly na mieste bude overované či ide o novovytvorené pracovné miesta na škole – t.j. porovnanie bude uskutočnené na základe stavu v školskom roku v ktorom projekt začal s prihliadnutím na pozície financované na základe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oskytnutých normatívnych resp. nenormatívnych finančných prostriedkov štátneho rozpočtu. Do porovnania nebudú zahrnuté pracovné pozície AU vytvorené na základe dočasných podporných programov zamestnávania (vzhľadom na ich dočasný charakter – napr. ÚPSVAR).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Na kontrole na mieste bude musieť kontrolovaný subjekt predložiť zoznam asistentov učiteľa pred začatím projektu a po jeho spustení. Do úvahy bude vzatý školský rok, v ktorom projekt začal. </a:t>
            </a:r>
            <a:endParaRPr b="0" lang="en-US" sz="1500" spc="-1" strike="noStrike">
              <a:solidFill>
                <a:srgbClr val="000000"/>
              </a:solidFill>
              <a:latin typeface="Calibri"/>
            </a:endParaRPr>
          </a:p>
          <a:p>
            <a:pPr>
              <a:spcBef>
                <a:spcPts val="374"/>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b050"/>
                </a:solidFill>
                <a:latin typeface="Calibri"/>
              </a:rPr>
              <a:t>Predmetom kontroly bude aj na overenie činností deklarovaných v náplni práce ako aj overenie kvalifikačných predpokladov.  </a:t>
            </a:r>
            <a:endParaRPr b="0" lang="en-US" sz="1500" spc="-1" strike="noStrike">
              <a:solidFill>
                <a:srgbClr val="000000"/>
              </a:solidFill>
              <a:latin typeface="Calibri"/>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ff0000"/>
                </a:solidFill>
                <a:latin typeface="Calibri"/>
              </a:rPr>
              <a:t>Neoprávnené výdavky</a:t>
            </a:r>
            <a:endParaRPr b="0" lang="en-US" sz="4400" spc="-1" strike="noStrike">
              <a:solidFill>
                <a:srgbClr val="000000"/>
              </a:solidFill>
              <a:latin typeface="Calibri"/>
            </a:endParaRPr>
          </a:p>
        </p:txBody>
      </p:sp>
      <p:sp>
        <p:nvSpPr>
          <p:cNvPr id="107" name=""/>
          <p:cNvSpPr txBox="1"/>
          <p:nvPr/>
        </p:nvSpPr>
        <p:spPr>
          <a:xfrm>
            <a:off x="324000" y="1267920"/>
            <a:ext cx="8362800" cy="518508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0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b050"/>
                </a:solidFill>
                <a:latin typeface="Calibri"/>
              </a:rPr>
              <a:t>všetky ostatné výdavky, ktoré nie sú uvedené v časti oprávnené výdavky – </a:t>
            </a:r>
            <a:r>
              <a:rPr b="0" lang="sk-SK" sz="2800" spc="-1" strike="noStrike">
                <a:solidFill>
                  <a:srgbClr val="ff0000"/>
                </a:solidFill>
                <a:latin typeface="Calibri"/>
              </a:rPr>
              <a:t>všetky ostatné výdavky okrem troch štandardných stupníc jednotkových nákladov </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Calibri"/>
              </a:rPr>
              <a:t>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pôsob financovania</a:t>
            </a:r>
            <a:endParaRPr b="0" lang="en-US" sz="36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 </a:t>
            </a:r>
            <a:r>
              <a:rPr b="1" lang="sk-SK" sz="1800" spc="-1" strike="noStrike">
                <a:solidFill>
                  <a:srgbClr val="00b050"/>
                </a:solidFill>
                <a:latin typeface="Calibri"/>
              </a:rPr>
              <a:t>Prijímateľ môže použiť pri implementácii projektu systém refundácie – úhrada z vlastných finančných prostriedkov a následné nárokovanie výdavku na MŠVVaŠ SR  ako sprostredkovateľský orgán OP ĽZ (ďalej „SO“)</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lebo systém zálohových platieb.</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pôsob financovania bol pre konkrétnych prijímateľov zadefinovaný v Zmluve o poskytnutí nenávratného finančného príspevku.</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Komunikácia so SO</a:t>
            </a:r>
            <a:endParaRPr b="0" lang="en-US" sz="36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komunikuje s SO prostredníctvom systému ITMS 2014+, verejná časť.</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ístup do ITMS 2014+ má každý prijímateľ, ktorému bol poskytnutý nenávratný finančný príspevok a má podpísanú Zmluvu o poskytnutí NFP k výzve „V základnej škole úspešnejší“.</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ti o platbu prijímateľ vypracuje v systéme ITMS 2014+, verejná časť. Žiadosti o zálohovú platbu predkladá prijímateľ na SO v elektronickej a písomnej podobe vždy podľa potreby a nároku vzniku na zálohovú platbu.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ti o zúčtovanie zálohovej platby, resp. priebežnú platbu  – prijímateľ predkladá na SO v elektronickej a písomnej podobe vždy k 15. dňu nasledujúceho mesiaca po dvojmesačnom intervale kedy má prijímateľ predložiť ŽoP. </a:t>
            </a: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Komunikácia so SO</a:t>
            </a:r>
            <a:endParaRPr b="0" lang="en-US" sz="36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ti o platbu prijímateľ vypracuje v systéme ITMS 2014+, verejná časť.</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pracovanie žiadosti o platbu je podrobne uvedené v ITMS 2014+ v časti „e-lerning“. Sú zadefinované jednotlivé kroky, ktoré je nutné urobiť, aby mohol prijímateľ vystaviť žiadosť o platbu. Súbor je zvukový, ale pre nepočujúcich je aj písomný.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E-lerning v ITMS – kurz na spracovanie ŽoP</a:t>
            </a:r>
            <a:endParaRPr b="0" lang="en-US" sz="36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Kurz Žiadosť o platbu (ŽoP) – verejná časť ITMS2014+ je prioritne určený pre prijímateľov finančných prostriedkov z Európskych štrukturálnych a investičných fondov (EŠIF). Kurz simuluje prácu v aplikácii ITMS2014+ a prevedie vás krokmi nutnými pre vypracovanie jednotlivých typov žiadosti o platbu (ŽoP).</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 </a:t>
            </a:r>
            <a:r>
              <a:rPr b="1" lang="sk-SK" sz="1800" spc="-1" strike="noStrike">
                <a:solidFill>
                  <a:srgbClr val="00b050"/>
                </a:solidFill>
                <a:latin typeface="Calibri"/>
              </a:rPr>
              <a:t>Interaktívny kurz je možné spustiť v internetových prehliadačoch Microsoft Internet Explorer, Google Chrome a Safari. Pokiaľ využívate iný prehliadač, môžete mať so spustením kurzu problém.</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Inštruktáž o ovládacích prvkoch kurzu spustíte prostredníctvom znaku  „i“  v pravom hornom rohu videa.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sun medzi jednotlivými snímkami kurzu je možný rozkliknutím tlačidla „Menu“ v pravom hornom rohu videa alebo kliknutím na znak  &gt;&gt;  v ľavom hornom rohu videa.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E-lerning v ITMS – kurz na spracovanie ŽoP</a:t>
            </a:r>
            <a:endParaRPr b="0" lang="en-US" sz="36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účasťou videa je zvukový komentár, preto je potrebné mať počas jeho sledovania zapnutý zvuk. V rámci kurzu  je v pravom hornom rohu videa dostupné tlačidlo „Prepis zvukovej stopy“, ktoré slúži na zobrazenie prepisu hovoreného textu.</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Kurz pozostáva z 9 samostatných častí, v nasledovnom odporúčanom poradí a v uvedenom trvaní:</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o platbu - Priebežná platba (čas trvania 25:47)</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 Predfinancovanie (čas trvania 25:31)</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o platbu - Poskytnutie zálohovej platby (čas trvania 26:00)</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o platbu - Zúčtovanie predfinancovania (čas trvania 23:16)</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E-lerning v ITMS – kurz na spracovanie ŽoP</a:t>
            </a:r>
            <a:endParaRPr b="0" lang="en-US" sz="36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 Zúčtovanie zálohovej platby (čas trvania 23:37)</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Účtovné doklady (čas trvania 17:22)</a:t>
            </a:r>
            <a:br>
              <a:rPr sz="1800"/>
            </a:b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Deklarované výdavky (čas trvania 19:51)</a:t>
            </a:r>
            <a:br>
              <a:rPr sz="1800"/>
            </a:b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Monitorovacie údaje (čas trvania 06:19)</a:t>
            </a:r>
            <a:br>
              <a:rPr sz="1800"/>
            </a:b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Kontrola a odoslanie žiadosti (čas trvania 04:18)</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Kováčiková Miriam</cp:lastModifiedBy>
  <dcterms:modified xsi:type="dcterms:W3CDTF">2018-09-05T12:18:22Z</dcterms:modified>
  <cp:revision>156</cp:revision>
  <dc:subject/>
  <dc:title>Snímka 1</dc:title>
</cp:coreProperties>
</file>